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6D521-81D0-474B-B7A6-03544C4E03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68676-640D-433C-9E55-C7645301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8A76D-4527-4EC8-AC23-34CB6FAE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08E3D-A1DD-4609-9010-23C950DFCD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CED6D-F927-4FA8-A429-35B020C0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4DBB-6CF1-4123-958B-66FFC11A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66C91-E6E9-4DDF-A41D-E218E8E5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E91B7-59DA-462A-9D4C-8DECC3A6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9CECE-8573-4E63-9012-C18091A9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80794-E6CF-4038-9292-13019293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7C8AE-17EB-454A-8DF2-43780978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91D9-D273-4951-9FC6-FD3A37F2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B851-13CB-440D-B81F-4777FFB857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ydro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diagram in exercise 1 and explain how hydro power is p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read the text and draw four simple dia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whether your diagrams were correct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7:17Z</dcterms:modified>
  <cp:revision>29</cp:revision>
  <dc:subject/>
  <dc:title>  </dc:title>
</cp:coreProperties>
</file>